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784-5E3E-4353-9F5C-C6F7E62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56D-BC5A-4830-8901-03FEBBD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41E-D45A-4816-A4F6-47AF44CD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C4D-F301-4CDA-AF39-C08BA474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52A-2BA7-41A0-8934-02C8620C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200-04F1-46BF-AFB2-5F6ADC4C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C08-8E6C-4A4B-AD76-5BDF4139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B19-2B9A-4B4F-A8CE-AABF4E21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286-D13E-4963-9467-3F02C0F7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63C-7D6F-4D6D-9646-96EB4DA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49B-3333-4E6E-84E7-F3FC484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CD2-2375-4B1B-B9D9-20C7DFD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73AB-9B84-4730-B550-12E8C3E0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11&amp;12: Proportional Reasoning </a:t>
            </a:r>
            <a:br>
              <a:rPr sz="32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Building to More Complex Relationship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rley Dalry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sa Suurt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9" name="Picture 6" descr="View Details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2057400"/>
            <a:ext cx="5334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walk around and look at the expectations under each Big Idea and consider whether you agree or disagree with their 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ought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475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some Big Ideas easier to match to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courses seem to have more proportional reasoning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nything that stood out for you during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suurtal\Local Settings\Temporary Internet Files\Content.IE5\OAZ122F2\MC900445118[1].wmf"/>
          <p:cNvPicPr/>
          <p:nvPr/>
        </p:nvPicPr>
        <p:blipFill>
          <a:blip r:embed="rId1"/>
          <a:stretch/>
        </p:blipFill>
        <p:spPr>
          <a:xfrm>
            <a:off x="8001000" y="5294160"/>
            <a:ext cx="5335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2952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pond to one of the following with each partn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e value of focusing on the same Big Ideas in proportional reasoning from K – 12 might be that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d you have any “aha” moments today, or were there ideas that challenged your thinking?  If so, wha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will find something for 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15328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o an around the room – hi my name is…. Before we do the beach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ach Ball Introduc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82844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small groups, pass the beach ball to each other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hen you catch the beach ball, answer the question that is closest to your left thumb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Picture 2" descr="balls,beach balls,leisure,recreation"/>
          <p:cNvPicPr/>
          <p:nvPr/>
        </p:nvPicPr>
        <p:blipFill>
          <a:blip r:embed="rId1"/>
          <a:stretch/>
        </p:blipFill>
        <p:spPr>
          <a:xfrm>
            <a:off x="6705720" y="43434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85800" y="1676520"/>
            <a:ext cx="80010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re is proportional reasoning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176040" y="1566720"/>
            <a:ext cx="87552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f the problems on the page and comple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e problem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id you, or could you have, used proportional reasoning when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ig idea(s) might be addressed with the problem you ch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nding conversation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160" y="1904760"/>
            <a:ext cx="6172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one in the room who completed the same problem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versation about what proportional reasoning was involved and which big idea(s) you think the problem might connect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www.clker.com/cliparts/5/b/9/8/1194984513646717809chat_icon_01.svg.hi.png"/>
          <p:cNvPicPr/>
          <p:nvPr/>
        </p:nvPicPr>
        <p:blipFill>
          <a:blip r:embed="rId1"/>
          <a:stretch/>
        </p:blipFill>
        <p:spPr>
          <a:xfrm>
            <a:off x="6400800" y="4114800"/>
            <a:ext cx="25495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ching Expectations to Big Idea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3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sets of expectations that you are familia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s a team to determine which Big Idea each expectation connects to (try to narrow it down to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each expectation on the chart paper with the Big Idea you connected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57200" y="4800600"/>
            <a:ext cx="1447920" cy="144792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BF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981080" y="5257800"/>
            <a:ext cx="152424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AP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657600" y="4648320"/>
            <a:ext cx="152388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HF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410080" y="5029200"/>
            <a:ext cx="1600200" cy="160020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V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DM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086600" y="4724280"/>
            <a:ext cx="1523880" cy="152424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R 3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F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0T23:14:37Z</dcterms:modified>
  <cp:revision>45</cp:revision>
  <dc:subject/>
  <dc:title>Slide 1</dc:title>
</cp:coreProperties>
</file>